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DAA-EC2B-4943-A23D-D82ABADE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FBA-EFCF-4352-B400-49607B0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7CE-2F25-44A0-A451-DDCE9352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9C5-C766-4996-8724-2D727819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D151-B433-4FF0-A216-AADAB1D5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E572-2376-47E8-83A3-90585BBF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7B9C-3C6B-4EBD-A7F1-6C74B345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25EC-EE0C-45E5-9A93-A8194FC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86E1-6177-48BB-8660-BD364EB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38A6-5AE7-4014-BA34-622AB2D7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EC1B-AEA1-4C4D-97D2-08A385CD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B86-8759-44E4-BCB2-C00CE9D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02A0-3572-4769-A619-3764314B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C10-DDF3-4445-8522-16D25F7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B25E-6365-4AC9-8AC4-2A9B1F9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B7F2-D0C2-4398-905D-B2A1FB3E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4D4-BF00-4C3C-82EB-A16D883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F10-99A5-41EA-9232-EA5018B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E08-BC89-4B11-998D-C218F21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1F2-9F8A-4A46-A0D9-0298EFD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F60-4A73-4CFF-876B-90B2831B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2F8-67D6-45C4-AA5A-5C5D742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C11-3FB0-418D-A001-0DD61E3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626-FEFE-4504-92B0-DAF81DA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26D9-35EF-4A6A-A133-B5CD06A298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228D-4386-4097-AB15-64C6CEDB7C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: What were the major accomplishments of the Scientific Revolution?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0000"/>
                </a:solidFill>
                <a:uFillTx/>
                <a:latin typeface="Arial"/>
              </a:rPr>
              <a:t>Do Now:  Complete this Regents question of the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s of the Enlightenment were primarily interest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relationship between people and their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divine right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ebating the role of the church in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omoting increased power for European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8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ro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Antonie van Leeuwenhoek in the mid 16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the first to see bacter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ro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Evangelista Torricelli in the 164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tudy and predict the we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Daniel Gabriel Fahrenheit in the early 17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also developed the scale in which we measure temperature (still used in the U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ngelista Torricel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the barometer in the  164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tudy and predict the we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285120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Antonie van Leeuwenhoek in the mid 16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the first to see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281952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el Gabriel Fahrenh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by the thermometer in the early 170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also developed the scale in which we measure temperature (still used in the U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cientific Revolution Awards 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with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oster of the Scientific Awards and rank your groups top 3 scientists.  Be sure to explain why each was ranked where they w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your groups top 3 choices for the Scientific awards and create your winners circle. Each person will give a short acceptance speech explaining why they are proud to have won the awa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444680"/>
            <a:ext cx="2666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old Italic"/>
              </a:rPr>
              <a:t>Create your own review she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the following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ghten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o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ne righ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Enlightenment philosophers and their belief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ocke, Hobbes, Voltaire, Montesquieu, Beccaria, Rousseau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examples of Absolute monarch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ouis XIV, Peter I, Catherine the Great and Queen Elizabet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examples of Scientific achiev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:  How did the Age of Revolutions change European though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  What were the major inventions of the Scientific Revolut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 Now: Copy your vocabulary in your glossary of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centric- theory of the Earth centered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ocentric-theory of the Sun centered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ism:  a government with 1 ruler with total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ghtenment- a time period in history where there was a change in outlook of many educated Europ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ntract- an agreement in which people give up certain powers in return for the benefit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ights- rights that belong to people simple because they are human beings. (LL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 view of the Uni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Copernicu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- was the first to develop the heliocentric theory of the universe.  He used math and scientific observations to prove his theor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679480" cy="370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3809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annes Kep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0’s improved on Copernicus’ theory.  He determined that the orbits (paths) of the planets were ovals not circles.  Wrote specific laws that outlined the Heliocentric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708360"/>
            <a:ext cx="2540160" cy="314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228600" y="533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ed a powerful telescop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put on trial by the church and charged with heresy.  Found guilty and forced to swear that the geocentric theory was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4818240"/>
            <a:ext cx="3124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486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overy: Grav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ed the Law of 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also is well known for his 3 laws of mo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2517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scientific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used toda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92640" y="1914480"/>
            <a:ext cx="3951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3:41:26Z</dcterms:created>
  <dc:creator>Jennifer</dc:creator>
  <dc:description/>
  <dc:language>en-US</dc:language>
  <cp:lastModifiedBy>NYCDOE</cp:lastModifiedBy>
  <dcterms:modified xsi:type="dcterms:W3CDTF">2011-11-10T13:07:36Z</dcterms:modified>
  <cp:revision>20</cp:revision>
  <dc:subject/>
  <dc:title>EQ:  How did the Age of Revolutions change European thought? FQ:  What were the major inventions of the Scientific Revolution? L22(Unit3intro)</dc:title>
</cp:coreProperties>
</file>